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F06-7F85-4946-9019-F4AC3385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4984-D775-4DC2-98E4-0C2EB592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A39-DAA7-4830-A5FD-307D9BE1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5CA3-EF82-4F14-B900-FB2F2B56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FF49-1B5C-479F-895F-D0CDA88F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A91C-B8BE-4765-BCFC-1BC389E3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CC72-33D4-40CE-A14A-7D8088F6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2BA8-8489-4B20-ACAD-CE25E81F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29E1-CB06-48B1-B253-CEC6692A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68B7-BCE9-41C2-9A53-4F668154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C9DC-DE7C-422D-9582-D1B21179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ABD-73AE-41F2-B1FD-C41C6246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E6FD-3EF2-4C1F-B020-2883C1AD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A958-206E-4045-95FC-28BCFCF2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02CD-87F6-4C4C-A280-FFEA8292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364C-C787-44F3-A98C-23BA6FE0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EF49-F8D7-4A25-9D17-032562ED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D56-5F61-4BCC-80CC-9AFCD471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2E2F-8CA4-4183-8F47-68526D3D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8DE1-A29D-4DE5-A2C0-766DA32E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D0B-3342-4E96-B9D1-172BE45A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55B6-3FD3-4CE4-A14E-D3AAEE65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D41-DAA3-4296-849D-7E16218E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1D5-17D0-4D1D-839A-47707208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445B-D745-4C8C-913A-E25602FEF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0048-B6A9-433B-854D-B29F05B230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nstitutional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nventi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iladelphia- 178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legat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5 from all states except Rhode Isl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ll-educated, mainly lawyers, large landowners, bankers, merch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orge Washington – presided over me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ints of Agree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83772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needed a new constitution –not a revision of the Articles of Confederation- Framers, Founding Fath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nted strong central gov. that could govern here and command respect abroad but would not be tyranni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eded executive,judiciary,legisl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ntinued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800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ntral gov. must be able to levy taxes, raise an army, control interstate and foreign commerce, and have sole power to coin mo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d to exercise power directly on the people not indirectly through the states- a Federal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undle of Compromise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resentation-Great Compromise-two houses one based on population one based on equal re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lavery- slaves count as Three- Fifths – five slaves counted as three free persons for representation and direct taxation- The slave trade would legally end in 20 years- 180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riffs-Congress allowed to levy taxes on imports but not ex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ntinued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007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sidency- four year term- electoral colle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tified by 9 of 13 states would go into eff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cial conventions called in each st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deralists – supported ratification- The Federalists papers-Hamilton, Madison, J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-Federalists – opposed 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2:40:25Z</dcterms:created>
  <dc:creator>004mh201</dc:creator>
  <dc:description/>
  <dc:language>en-US</dc:language>
  <cp:lastModifiedBy>emily.johnson</cp:lastModifiedBy>
  <dcterms:modified xsi:type="dcterms:W3CDTF">2012-10-01T21:02:33Z</dcterms:modified>
  <cp:revision>3</cp:revision>
  <dc:subject/>
  <dc:title>Constitutional  Convention</dc:title>
</cp:coreProperties>
</file>